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F2CE-78E8-4093-84FA-F6249762F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A686-2C24-4296-819C-9F38A797D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C27-D3D4-4FD2-A229-DFF2440B22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7E4-6AE4-4A8C-8071-DF6F953CA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C3A9-D612-4043-9E88-7009C135F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AA6-BC11-430C-BD65-2DB1E1072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A5B-AA55-4DDF-87E3-B5595001C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00F-9B24-4CAB-9D2A-E851337AE6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2FA-01CB-4BBD-8188-3AF102390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F8B7-C182-4A93-89A4-DED9854BF2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57A-D6C8-4A8E-AE27-5E8B68C428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3178-42E5-425C-9F68-DA320E1E6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77A-2229-41E1-B10F-7E73FCB9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1D3-725E-4760-9775-11B5016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0B8-B05A-4E05-89BA-F888BF6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2AE-93A0-4A5B-BE8D-2D8778D9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77EB-1CE1-42DE-AC11-FC3E566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0ACA-2E2F-4891-BE72-FBB0D61C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48F1-A99C-49AF-9470-390B788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98A-32FD-415D-A71E-74FDA98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1A2-8FF5-4F3F-8F84-6AA0385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C66A-63E1-43D6-9C20-DCB60F99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22D4-AFDC-4876-BA87-B3E4EB6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088-B173-4987-A238-C96E73F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6181-31DC-4F31-B3B8-7910E46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E103-CA71-4F62-AE71-8B98B50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9098-4BCE-4C74-91CF-8BF4DAF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C0D-3521-4C11-B48A-8F647E9A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367B-174C-40E3-A206-2FF08227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206-6036-4448-9D03-DB61D333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7EC-27B3-40F8-868A-FF0A1ABD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EC7-4D9D-4E28-8D28-BBC2961A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A53-9718-4965-B4C6-7575BD4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7D2-FAB8-49AF-B7A3-8DFD1B8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8AA-7325-4EDF-B0A3-CBE55EEE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AAC-EE68-4ED2-9AE6-4C2BD60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D55-51BB-4BA9-A9B7-9C90D3337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7241-5EA1-4681-B117-488279DB9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csummersession2.wikispaces.com/file/view/Website+evaluation+rubric1+-+Primary.pdf" TargetMode="External"/><Relationship Id="rId2" Type="http://schemas.openxmlformats.org/officeDocument/2006/relationships/hyperlink" Target="http://bcsummersession2.wikispaces.com/file/view/Website+evaluation+rubric1+-+Primary.pdf" TargetMode="External"/><Relationship Id="rId3" Type="http://schemas.openxmlformats.org/officeDocument/2006/relationships/hyperlink" Target="http://bcsummersession2.wikispaces.com/file/view/Website+evaluation+rubric2+-+Intermediate.pdf" TargetMode="External"/><Relationship Id="rId4" Type="http://schemas.openxmlformats.org/officeDocument/2006/relationships/hyperlink" Target="http://bcsummersession2.wikispaces.com/file/view/Website+evaluation+rubric2+-+Intermediate.pdf" TargetMode="External"/><Relationship Id="rId5" Type="http://schemas.openxmlformats.org/officeDocument/2006/relationships/hyperlink" Target="http://bcsummersession2.wikispaces.com/file/view/Website+evaluation+rubric3+-+Secondary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hyperlink" Target="http://www.thinkfinity.org/" TargetMode="External"/><Relationship Id="rId3" Type="http://schemas.openxmlformats.org/officeDocument/2006/relationships/hyperlink" Target="http://school.discoveryeducation.com/schrockguide/" TargetMode="External"/><Relationship Id="rId4" Type="http://schemas.openxmlformats.org/officeDocument/2006/relationships/hyperlink" Target="http://www.homeworkspot.com/" TargetMode="External"/><Relationship Id="rId5" Type="http://schemas.openxmlformats.org/officeDocument/2006/relationships/hyperlink" Target="http://www.atozteacherstuff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tedstreaming.com/" TargetMode="External"/><Relationship Id="rId2" Type="http://schemas.openxmlformats.org/officeDocument/2006/relationships/hyperlink" Target="http://www.carolhurs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.gov" TargetMode="External"/><Relationship Id="rId2" Type="http://schemas.openxmlformats.org/officeDocument/2006/relationships/hyperlink" Target="http://en.wikipedia.org/wiki/.edu" TargetMode="External"/><Relationship Id="rId3" Type="http://schemas.openxmlformats.org/officeDocument/2006/relationships/hyperlink" Target="http://en.wikipedia.org/wiki/.com" TargetMode="External"/><Relationship Id="rId4" Type="http://schemas.openxmlformats.org/officeDocument/2006/relationships/hyperlink" Target="http://en.wikipedia.org/wiki/.mil" TargetMode="External"/><Relationship Id="rId5" Type="http://schemas.openxmlformats.org/officeDocument/2006/relationships/hyperlink" Target="http://en.wikipedia.org/wiki/.org" TargetMode="External"/><Relationship Id="rId6" Type="http://schemas.openxmlformats.org/officeDocument/2006/relationships/hyperlink" Target="http://en.wikipedia.org/wiki/.net" TargetMode="External"/><Relationship Id="rId7" Type="http://schemas.openxmlformats.org/officeDocument/2006/relationships/hyperlink" Target="http://en.wikipedia.org/wiki/.in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Evaluating </a:t>
            </a:r>
            <a:br>
              <a:rPr sz="6600"/>
            </a:b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Web Site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. 7215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rie Edwards, Instru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b Evaluation Rubr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bcsummersession2.wikispaces.com/file/view/Website+evaluation+rubric1+-+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rimary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bcsummersession2.wikispaces.com/file/view/Website+evaluation+rubric2+-+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Intermediate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bcsummersession2.wikispaces.com/file/view/Website+evaluation+rubric3+-+Secondary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b 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1 website from each of the different to review from the list of sites on the Resource page of the wi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2174760"/>
            <a:ext cx="4345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ducational Port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discoveryeducation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thinkfinity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 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school.discoveryeducation.com/schrockguide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homeworkspot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www.atozteacherstuff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teachersfirst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proteacher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hildren Search Eng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kidsclick.org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yahooligans.yahoo.com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askforkids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teractive Si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theteachersguide.com/interactivesites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aluating Web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of the information is placed there by reliabl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can create a website to express their personal opinion, ideas and phil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thor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the credibility of the person or persons who author and create the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author clearly identified?  If you cannot identify the creator of the webpage, you may wish to avoid this s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the credentials of the author, creator or website.  What evidence is there the author qualifies to publish on this top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the author listed his/her occupation, years of experience, position, education or other credenti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unitedstreaming.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carolhurst.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fili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professional organization, school, school district, university, company or government office with which a particular web site is assoc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URL and domain name to identify which type of organization maintains the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ED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M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codes - .us, .uk, .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rpose &amp; Obje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is the reason the website was created or intent of the web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ity is the process of determining or interpreting the intent or purpose of the website and if it is free of bias, such as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is the information the webpage prov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content  valid and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information on the page relate to your curriculum and instructional standa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opics are covered and is it clearly labeled and well organiz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hat level is the information written and how thorough is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links add value and assist you in meeting your instructional go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rning Proc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content engages students to use higher-order thinking skills to go beyond the simple acquisition of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dience &amp; Curren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dience is the individual or group intended to view the web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is the measure of how up to date, or timely the content is and how often it is upd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ig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sign is the way the web site is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web site design determines the effectiveness by enhancing it or detracting from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0:28:20Z</dcterms:created>
  <dc:creator>vedwards</dc:creator>
  <dc:description/>
  <dc:language>en-US</dc:language>
  <cp:lastModifiedBy>Edwards Valrie</cp:lastModifiedBy>
  <cp:lastPrinted>2012-08-07T12:00:35Z</cp:lastPrinted>
  <dcterms:modified xsi:type="dcterms:W3CDTF">2012-08-07T17:48:37Z</dcterms:modified>
  <cp:revision>21</cp:revision>
  <dc:subject/>
  <dc:title>Slide 1</dc:title>
</cp:coreProperties>
</file>